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B1CC-D89F-49FA-9489-4949E60BA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261E-54EF-4A39-AE9A-98CD3542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829C-CC9D-4437-B2C8-3606184DB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88AD-A8A4-4DDA-A42C-FEABF33B3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38BA-B4FF-44C8-A658-A8F37CEA7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D113-25F1-4638-B7DA-61549344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BE51-B003-436F-A0F1-C4BE1B2C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014A-4486-4DF8-926C-2E21C6F3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D9E1-962D-4444-A686-E9C63C05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254B-4BFE-44AE-9845-06440B86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EF1D-329C-4459-A6F4-B0928AF8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BAAD-F081-4285-B529-91EDF501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1AA1-B1AC-4F3F-A015-4449D7D4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42B4-171B-4380-8E58-8264D7EE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0955B-9CB0-48B4-AD25-EAC2810B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E5A8-929D-4D2C-901B-A8ECADCFA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4EA66-1F28-4902-9255-2256777CC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9057-1CA1-4F51-AE2C-285763BB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A871-7498-477E-B3E8-1CB74174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E0C3-26B3-43E2-A9BB-881A2EC8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EADB-4965-48DF-A5A0-DA1F09C7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EE26-D6F2-4FEA-AC64-F331E663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F8F2-91E2-4B1F-B646-2E84F81D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E40A-233A-4A96-B3AF-13B2D1DE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f237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3e7"/>
                    </a:gs>
                    <a:gs pos="100000">
                      <a:srgbClr val="9f237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03e7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03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2665-B37E-4D79-9635-7573847427A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f237f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9f237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03e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03e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46D5-A913-452F-9195-234DEDFCB56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nor 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Vocabulary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ixed Numbe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mixed number is a whole number plus a fractio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Example:  3 ½ 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umerat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umerator the top number of a fraction that tells how many parts of a whole are being consider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22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xample:  </a:t>
            </a:r>
            <a:r>
              <a:rPr b="0" lang="en-US" sz="8800" spc="-1" strike="noStrike">
                <a:solidFill>
                  <a:srgbClr val="ffcc00"/>
                </a:solidFill>
                <a:latin typeface="Arial Black"/>
              </a:rPr>
              <a:t>½</a:t>
            </a:r>
            <a:endParaRPr b="0" lang="en-US" sz="8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"/>
          <p:cNvSpPr/>
          <p:nvPr/>
        </p:nvSpPr>
        <p:spPr>
          <a:xfrm rot="841800">
            <a:off x="2303280" y="4344480"/>
            <a:ext cx="990360" cy="228600"/>
          </a:xfrm>
          <a:prstGeom prst="rightArrow">
            <a:avLst>
              <a:gd name="adj1" fmla="val 50000"/>
              <a:gd name="adj2" fmla="val 108307"/>
            </a:avLst>
          </a:prstGeom>
          <a:solidFill>
            <a:srgbClr val="39a6dd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nominat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enominator the bottom number of a fraction that tells how many equal parts are in the whole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22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xample:  </a:t>
            </a:r>
            <a:r>
              <a:rPr b="0" lang="en-US" sz="8800" spc="-1" strike="noStrike">
                <a:solidFill>
                  <a:srgbClr val="ffcc00"/>
                </a:solidFill>
                <a:latin typeface="Arial Black"/>
              </a:rPr>
              <a:t>½ </a:t>
            </a:r>
            <a:endParaRPr b="0" lang="en-US" sz="8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"/>
          <p:cNvSpPr/>
          <p:nvPr/>
        </p:nvSpPr>
        <p:spPr>
          <a:xfrm>
            <a:off x="4800600" y="4952880"/>
            <a:ext cx="1371600" cy="304920"/>
          </a:xfrm>
          <a:prstGeom prst="leftArrow">
            <a:avLst>
              <a:gd name="adj1" fmla="val 50000"/>
              <a:gd name="adj2" fmla="val 112456"/>
            </a:avLst>
          </a:prstGeom>
          <a:solidFill>
            <a:srgbClr val="39a6dd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20:13:39Z</dcterms:created>
  <dc:creator>connor.kerr</dc:creator>
  <dc:description/>
  <dc:language>en-US</dc:language>
  <cp:lastModifiedBy>connor.kerr</cp:lastModifiedBy>
  <dcterms:modified xsi:type="dcterms:W3CDTF">2010-11-23T20:38:15Z</dcterms:modified>
  <cp:revision>2</cp:revision>
  <dc:subject/>
  <dc:title>Connor  </dc:title>
</cp:coreProperties>
</file>